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C7A5-20D1-4A27-AD46-395DE308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FA34-8C46-4376-AA26-FEAE397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DA92-BE68-492B-AC91-B542876B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F12B-C24B-4D18-BD8B-2A2E39F4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34C-6952-4FB7-B7D9-3ED99A54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C1C1-09A0-4EE0-8145-59FE076C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383-507D-4CE9-BF28-6D3E302E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530-F8B0-498D-9F07-599FBAF7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A025-B9F9-484B-9E99-A59B7FD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6DB-9A11-4AD0-9063-0DB040A6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6CD-C86C-4640-9D5C-BE6FB6A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C435-7C60-4F15-BC9C-DEEE1033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9B62-102A-4DA5-8D5E-E6992ED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FBB7-9818-452C-B2E2-07B007B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EE15-0F8E-40DA-83F7-F51B9CC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213-5CB7-4751-9CB9-200D7817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C421-AF8B-4962-A8B1-DF652D60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FD40-B8BA-4850-A157-E80ED4C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2CF7-25FB-4653-BE74-6D88ABC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3D64-9CC3-4E42-88ED-AF7119DA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8F08-9936-4F3B-BFAA-0D9F9C3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93B4-DFDE-41DF-B05F-719C59E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DB95-701A-4851-8F1B-3037DC5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4B3A-E4A5-4025-BFE1-355BB7F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EA5D-6F29-4B84-84CE-AC576E5C1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6DA6-397F-4EB3-AA7A-008763144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Веселая гимнастика для языч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393372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пражнение «Чашеч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ироко 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сунуть широкий язык и придать ему форму «чашечки» (слегка приподнять кончик я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0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Вкусное варенье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Широким языком в форме «чашечки» облизать верхнюю губ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1752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Гармош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делать «грибочек» (присосать твердый язык к неб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отрывая языка, открывать и закрыва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484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Заборчик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, с напряжением обнажив сомкнуты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169560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609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Чистим зубк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, 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ом языка с внутренней стороны «почистить» поочередно верхние и ниж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178128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Качел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лыбнуть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крыть 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 языка за верх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чик языка за нижние зу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60956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65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Garamond"/>
              </a:rPr>
              <a:t>Делайте зарядку со своим язычком и будьте здоровы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Garamond"/>
              </a:rPr>
              <a:t>Презентацию подготовила студентка гр. 617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Garamond"/>
              </a:rPr>
              <a:t>Канева Надеж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6:15:40Z</dcterms:created>
  <dc:creator>студент</dc:creator>
  <dc:description/>
  <dc:language>en-US</dc:language>
  <cp:lastModifiedBy>студент</cp:lastModifiedBy>
  <dcterms:modified xsi:type="dcterms:W3CDTF">2012-04-20T06:55:25Z</dcterms:modified>
  <cp:revision>2</cp:revision>
  <dc:subject/>
  <dc:title> Веселая гимнастика для язычка</dc:title>
</cp:coreProperties>
</file>